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59849"/>
        <c:axId val="21737113"/>
      </c:barChart>
      <c:catAx>
        <c:axId val="66759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37113"/>
        <c:crosses val="autoZero"/>
        <c:auto val="1"/>
        <c:lblAlgn val="ctr"/>
        <c:lblOffset val="100"/>
        <c:noMultiLvlLbl val="0"/>
      </c:catAx>
      <c:valAx>
        <c:axId val="21737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9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D40-3C09-4325-9B83-5EAC5F0E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142-2080-46A2-9CF8-038D746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F76-F0A8-4ABB-9E91-644831F9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337-596A-4A08-8FAB-CD211E42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C32-D483-417A-80C2-278531A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0A3-9DD8-4926-AAF4-9BE1746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AE3-5409-46AA-A60E-8ABC85F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CC8-DB1A-4151-AD41-2FDD6423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789-9901-4F34-9995-7B95543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23F-7811-4A8D-875B-01353FB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CCE-4F64-4F1D-AF68-2EB74AB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230-6116-4966-93C0-9EF28D7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D1FE6-E3A2-4151-BF4A-BF832546C8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