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00575"/>
        <c:axId val="55525797"/>
      </c:barChart>
      <c:catAx>
        <c:axId val="62100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25797"/>
        <c:crosses val="autoZero"/>
        <c:auto val="1"/>
        <c:lblAlgn val="ctr"/>
        <c:lblOffset val="100"/>
        <c:noMultiLvlLbl val="0"/>
      </c:catAx>
      <c:valAx>
        <c:axId val="55525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00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E40-6DAA-4C6A-AB20-1BBD84F0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45A-BDAC-4846-BB29-A9E37408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656-2055-47F7-96BE-F83F11D4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A34D-5DEA-4C14-A634-9CA491B1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1E6-E0E2-4C13-9520-ACAC02F8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F2B-CEA2-42BF-B65A-F7840C5D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8C9-527D-4420-ABA4-89072E9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C01-9BB4-46BE-940C-AB8F169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012-6C6E-43C3-9CEC-53BF7A9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5AE-6C65-433A-BAB5-202B31B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187-C1E5-4409-832F-16FBEC1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8C8-BB28-4BCD-A381-25DB5811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1DE8-9178-4ED6-B6E5-5D77645EF7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